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FA3-8C21-479F-AE47-DE7C73DD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642-9DC2-41AB-BBC4-7110586D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29C-6B87-4E6A-85BA-5FCEA42B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E2B-6BFF-448C-B856-C8D62F81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CFC-BB01-4649-8199-93ADAA8A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EAA-3BA0-4A03-8DC5-45CA5FE5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820-8A55-419F-B8C9-B23B09D1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015-9B28-423C-998F-AD6C310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4C6-5408-4418-8EC9-3822002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83E-8D84-459F-8175-100B75DA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523-E2B1-4437-9462-1C50BE15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D23-B78F-402A-8D9E-51D516DA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6372-7961-43F6-A3B5-3753015E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ltures of Nu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Nisha M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hel Ch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7:17:09Z</dcterms:created>
  <dc:creator>Default</dc:creator>
  <dc:description/>
  <dc:language>en-US</dc:language>
  <cp:lastModifiedBy>Default</cp:lastModifiedBy>
  <dcterms:modified xsi:type="dcterms:W3CDTF">2009-01-09T17:17:48Z</dcterms:modified>
  <cp:revision>2</cp:revision>
  <dc:subject/>
  <dc:title>The Cultures of Nubia</dc:title>
</cp:coreProperties>
</file>